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A9665-F1F7-451E-B5B2-268348B5E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918C4-5DD1-4F79-9B3D-B4AAF002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06B78-3194-4586-8BBC-69D2BE864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5E28B-40B1-495F-8770-D750FEC5F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3F62-6931-470C-8000-8BB15A2E7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2242-2A24-412D-99E2-8AC7D1A6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C95E-1801-4AFC-8C44-24739A24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5123-3382-40BB-8878-25482201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95C7-81D3-4A75-BCBF-BB5BA146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918C-739A-4931-81CC-49D90F74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4371-5305-4F09-9A10-760E584D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8EE52-FD7F-4B48-9765-75A274C6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CF6C-AAD2-4504-96C4-096D2B2A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8433-D433-4D80-9BAC-FC253AB7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F255-C2E3-41DE-BADB-E5365748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9D89F-42EF-483F-A556-715BC6367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E323-5B2C-4DAA-9E15-9FCA3267B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9423B-7851-499F-9A1B-E21239C4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93508-E4BB-43D4-BB26-CB021FA3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64307-B903-4862-81F4-8F136C62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A339E-CB03-4197-A69C-E499819B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806C2-026D-4508-AA1E-85F4267D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13EB8-FD18-4EE0-B742-C147A84D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2805C-E1DA-4999-B90C-3414A7F7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60ED-198B-4F93-98E3-965747E714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A459-77C1-4CE8-8DC4-307D26750C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Big 6 Lesson Plan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onica Car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Objectives and Background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 The student will be able to actively research a chosen disease in a proficient mann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 The student will be able to put together and present a PowerPoint present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ask Definitio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will research a disease for Health class and be able to present a slide show on the top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must select a topic and have it approved by the teac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eacher and students will also brainstorm and generate an outline and rubric for the assign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Information Seeking Strategi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brainstorm and decide that possible sources for information about diseases would be: textbooks, encyclopedias, and medical websit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Location &amp; Acces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edia specialist helps some students access WebMD and the Mayo Clinic websi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students look in the encyclopedia for their topic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Use of Informatio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tudent takes notes from WebMD using his own wor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tudent has the media specialist photocopy pages out of the encyclopedia for 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ynthesi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student creates his/her own slide show and presents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eacher discusses the assignment with the class. They talk about what they felt was the hardest part of the assign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udents complete a self-reflection about their assign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I-SAIL Standard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ard 1: Accesses information efficiently and effectively to inquire, think critically, and gain knowled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ard 2: Evaluates information critically and competently to draw conclusions, make informed decisions, apply knowledge to new situations, and create new knowled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ard 3: Uses information accurately, creatively, and ethically to share knowledge and participate ethically and productively as members of our democratic socie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23:13:46Z</dcterms:created>
  <dc:creator>user</dc:creator>
  <dc:description/>
  <dc:language>en-US</dc:language>
  <cp:lastModifiedBy>user</cp:lastModifiedBy>
  <dcterms:modified xsi:type="dcterms:W3CDTF">2010-02-23T22:53:33Z</dcterms:modified>
  <cp:revision>5</cp:revision>
  <dc:subject/>
  <dc:title>Big 6 Lesson Plan</dc:title>
</cp:coreProperties>
</file>